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F3D-022D-49C9-B342-DAC27D7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AB2-1808-4C5D-83EF-FFFBAE9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3B3-FF37-4AE4-A4E3-2C83B94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466-2366-48DE-882C-E0919F75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768-1637-414E-AD7D-C616DD3D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973080"/>
            <a:ext cx="81406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042-31E2-46B4-8F43-141C98CF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941-3559-4587-9C5A-4E5C3EA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4B4-59EC-4847-84AB-C022886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1F5-C211-4563-B6D4-0D463AB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6D8-5A56-4120-870B-F7B03D1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A78-9225-4D0D-9031-CD4E63AE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72C-BBC9-4CC5-B1F8-434C5B4A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73080"/>
            <a:ext cx="81406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160" y="31680"/>
            <a:ext cx="8991360" cy="39888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8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章  磁盘接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981080" y="2462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2462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E0B-15B4-4B35-A8BA-58BF0FF92B7C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2.png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slide" Target="slide70.xml"/><Relationship Id="rId13" Type="http://schemas.openxmlformats.org/officeDocument/2006/relationships/slide" Target="slide70.xml"/><Relationship Id="rId14" Type="http://schemas.openxmlformats.org/officeDocument/2006/relationships/image" Target="../media/image2.png"/><Relationship Id="rId15" Type="http://schemas.openxmlformats.org/officeDocument/2006/relationships/slide" Target="slide75.xml"/><Relationship Id="rId16" Type="http://schemas.openxmlformats.org/officeDocument/2006/relationships/slide" Target="slide75.xml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image" Target="../media/image2.png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image" Target="../media/image6.png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image" Target="../media/image6.png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image" Target="../media/image6.png"/><Relationship Id="rId18" Type="http://schemas.openxmlformats.org/officeDocument/2006/relationships/slide" Target="slide13.xml"/><Relationship Id="rId19" Type="http://schemas.openxmlformats.org/officeDocument/2006/relationships/slide" Target="slide13.xml"/><Relationship Id="rId20" Type="http://schemas.openxmlformats.org/officeDocument/2006/relationships/image" Target="../media/image6.png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image" Target="../media/image6.png"/><Relationship Id="rId24" Type="http://schemas.openxmlformats.org/officeDocument/2006/relationships/slide" Target="slide17.xml"/><Relationship Id="rId25" Type="http://schemas.openxmlformats.org/officeDocument/2006/relationships/slide" Target="slide17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image" Target="../media/image2.png"/><Relationship Id="rId6" Type="http://schemas.openxmlformats.org/officeDocument/2006/relationships/slide" Target="slide45.xml"/><Relationship Id="rId7" Type="http://schemas.openxmlformats.org/officeDocument/2006/relationships/slide" Target="slide45.xml"/><Relationship Id="rId8" Type="http://schemas.openxmlformats.org/officeDocument/2006/relationships/image" Target="../media/image2.png"/><Relationship Id="rId9" Type="http://schemas.openxmlformats.org/officeDocument/2006/relationships/slide" Target="slide56.xml"/><Relationship Id="rId10" Type="http://schemas.openxmlformats.org/officeDocument/2006/relationships/slide" Target="slide56.xml"/><Relationship Id="rId11" Type="http://schemas.openxmlformats.org/officeDocument/2006/relationships/image" Target="../media/image2.png"/><Relationship Id="rId12" Type="http://schemas.openxmlformats.org/officeDocument/2006/relationships/slide" Target="slide61.xml"/><Relationship Id="rId13" Type="http://schemas.openxmlformats.org/officeDocument/2006/relationships/slide" Target="slide61.xml"/><Relationship Id="rId14" Type="http://schemas.openxmlformats.org/officeDocument/2006/relationships/slide" Target="slide61.xml"/><Relationship Id="rId15" Type="http://schemas.openxmlformats.org/officeDocument/2006/relationships/slide" Target="slide61.xml"/><Relationship Id="rId16" Type="http://schemas.openxmlformats.org/officeDocument/2006/relationships/slide" Target="slide61.xml"/><Relationship Id="rId17" Type="http://schemas.openxmlformats.org/officeDocument/2006/relationships/slide" Target="slide61.xml"/><Relationship Id="rId18" Type="http://schemas.openxmlformats.org/officeDocument/2006/relationships/slide" Target="slide61.xml"/><Relationship Id="rId19" Type="http://schemas.openxmlformats.org/officeDocument/2006/relationships/slide" Target="slide61.xml"/><Relationship Id="rId20" Type="http://schemas.openxmlformats.org/officeDocument/2006/relationships/slide" Target="slide61.xml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71.xml"/><Relationship Id="rId4" Type="http://schemas.openxmlformats.org/officeDocument/2006/relationships/slide" Target="slide71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7683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磁盘接口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660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盘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软盘驱动器接口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硬盘驱动器接口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4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现代硬盘及接口技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8.5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磁盘驱动器接口软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5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种类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磁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驱动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814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4328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硬盘的外形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14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316160"/>
            <a:ext cx="5790960" cy="42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口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58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常见硬盘的主要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838080"/>
          <a:ext cx="7543800" cy="47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75438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04976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　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6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驱动器的类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080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软盘驱动器一般分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的磁盘容量一般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2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60K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两种；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的磁盘容量一般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0K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两种类型。现在使用的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，且容量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驱动器的工作原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当软磁盘放入驱动器时，通过软盘驱动器控制电路指示主轴电机和磁头步进电机动作，进行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操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数据的错误校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常用数据校验的方法主要有循环冗余码校验及补码校验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7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数据和数据格式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7768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的磁道和扇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514600"/>
            <a:ext cx="8077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盘基本是按磁道来存储数据的，都含有三类字段：索引字段、标识字段和数据字段。这三种字段有时组合起来，构成几个区域，如地址区、数据区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软盘的磁道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磁道，每个磁道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扇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33720" y="914040"/>
            <a:ext cx="5160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磁盘数据的编码格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486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4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磁记录的编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68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7627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034280"/>
            <a:ext cx="753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8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其他外部存储设备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327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其他存储设备主要是光盘。一般光盘驱动器主要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光盘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W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V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驱动器等。光盘盘片的尺寸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。光盘介质的存储容量各不相同。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盘的存储容量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50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盘的存储容量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30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V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存储容量可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.7G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驱动器接口电路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291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2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软盘适配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2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软盘控制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2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0" action="ppaction://hlinksldjump"/>
              </a:rPr>
              <a:t>FDC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控制器命令与端口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444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适配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324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8.5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软盘适配器电路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432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6294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973080"/>
            <a:ext cx="3886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6776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磁盘的工作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盘接口电路的组成和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硬盘接口电路的组成和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磁盘接口电路的中断服务程序的应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缓冲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FDC NEC765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软盘控制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时钟时序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字信号控制电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译码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写预补偿电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分离电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原理图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信号驱动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上的接口信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传输数据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5791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6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数字信号控制与译码器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9246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7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软盘适配器写预补偿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62320" y="5791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8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数据分离电路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73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5713" b="4524"/>
          <a:stretch/>
        </p:blipFill>
        <p:spPr>
          <a:xfrm>
            <a:off x="685800" y="1143000"/>
            <a:ext cx="79246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990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软盘驱动器线缆各引脚信号用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828800"/>
          <a:ext cx="7543800" cy="397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75438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控制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0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软盘控制器是磁盘控制的主要部件。通常采用驱动器专用微控制器芯片。软盘控制器的接口部件主要由三部分组成，与系统接口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M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控制逻辑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PU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控制逻辑；与驱动器控制信号接口的驱动器控制逻辑；与磁盘读写串行数据接口的串行控制逻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76160" y="990360"/>
            <a:ext cx="6148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FDC NEC765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主要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分别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控制来自主机系统或直接存储器存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数据传送；可连接并控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磁盘驱动器，可以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FM/RL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式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单密度或双密度磁盘；可编程记录长度分别为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0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；可以与大多数微型计算机系统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兼容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EC765A 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SI D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封装形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5943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9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软盘驱动器控制器（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FDC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）内部框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811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NEC765A 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控制器的接口信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981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C765A FD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控制器的引脚可分为三类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743200"/>
            <a:ext cx="7162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１）系统接口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２）经过串行控制接口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３）由驱动器控制接口的若干信号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60520" y="1066680"/>
            <a:ext cx="91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0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软盘驱动器控制器（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FDC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NEC765A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外形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12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516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73080"/>
            <a:ext cx="6324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概述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60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1.1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记录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1.2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写入数据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1.3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读出数据原理及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1.4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读写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8.1.5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磁盘的种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8.1.6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软盘驱动器的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21" action="ppaction://hlinksldjump"/>
              </a:rPr>
              <a:t>8.1.7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磁盘数据和数据格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24" action="ppaction://hlinksldjump"/>
              </a:rPr>
              <a:t>8.1.8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其他外部存储设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6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034280"/>
            <a:ext cx="8140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3  FDC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控制器命令与端口寄存器</a:t>
            </a: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5310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软盘驱动器的控制命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51460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软盘驱动器的控制命令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DATA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DELETE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删除数据的扇区、磁道及磁面    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RITE DATA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数据到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RITE DELETE DATA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删除的数据到扇区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06668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DA A TRACK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一个完整磁道上的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ID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扇区标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ORMAT TRACK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格式化所选择的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EQUAL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LOW &amp; EQUAL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小于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HIGH &amp; EQUAL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大于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CALIBRATE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磁头复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NSE INTERRUPT STATUS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检测驱动器的中断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PECIFY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置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NSE DRIVE  STATUS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检测驱动器中断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EK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搜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76520" y="1447560"/>
            <a:ext cx="63770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控制器的端口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286000"/>
            <a:ext cx="6934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软盘控制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D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共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端口寄存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2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写）：方式选择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4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读）：主状态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5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写）：命令系列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5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读）：结果系列寄存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52480" y="48769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1  FDC 3F2H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方式选择寄存器各位说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666880" y="9140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各寄存器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2282760"/>
            <a:ext cx="876312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5029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2  FDC 3F4H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主状态寄存器各位说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27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973080"/>
            <a:ext cx="646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驱动器接口电路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9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3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硬盘驱动器的组成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3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硬盘适配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3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硬盘驱动器数据线的线缆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3.4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增强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4" action="ppaction://hlinksldjump"/>
              </a:rPr>
              <a:t>IDE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（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6" action="ppaction://hlinksldjump"/>
              </a:rPr>
              <a:t>EIDE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或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ATA-2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）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21" action="ppaction://hlinksldjump"/>
          </p:cNvPr>
          <p:cNvSpPr/>
          <p:nvPr/>
        </p:nvSpPr>
        <p:spPr>
          <a:xfrm>
            <a:off x="6934320" y="6324480"/>
            <a:ext cx="188424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73080"/>
            <a:ext cx="7683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驱动器的组成原理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334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硬盘驱动器是将硬盘机构与控制机构的电路密封在一起构成的，硬盘驱动器通过数据电缆线与计算机主板中的硬盘适配器相连。硬盘适配器电路主要包括硬盘接口电路、硬盘控制器电路。其结构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.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5791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3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硬盘驱动器的基本组成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1187" t="0" r="1506" b="5822"/>
          <a:stretch/>
        </p:blipFill>
        <p:spPr>
          <a:xfrm>
            <a:off x="609480" y="990720"/>
            <a:ext cx="77724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90560" y="1066680"/>
            <a:ext cx="3862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主轴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主轴的作用是传递硬盘主轴电机的转速，使硬盘盘片以额定的速度稳定地转动。硬盘主轴系统由主轴电机和电机控制电路组成。其工作过程如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1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973080"/>
            <a:ext cx="501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记录原理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磁记录是以磁介质受外磁场的磁化，当去掉外磁场后仍有介质剩余磁化状态这一性质为基本原理。磁盘机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HD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FD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是由介质、读写磁头、读写电路、马达及伺服驱动电路等组成。磁盘的读写原理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4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主轴电机稳速电路示意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7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438280" y="990360"/>
            <a:ext cx="6075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读写磁头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362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硬盘读写磁头系统由悬浮式或浮式磁头、读写头控制电路组成。硬盘采用悬浮式磁头而不是软盘驱动器的接触式磁头，读写头电路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，由磁头选择逻辑、磁头写驱动电路、磁头驱动线圈、读出电路及状态检测电路组成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5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硬盘写电路组成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09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09680" y="990360"/>
            <a:ext cx="4167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头定位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2514600"/>
            <a:ext cx="4724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１）初始定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２）准备定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３）检查出错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４）磁头小车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５）返回信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1828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需要分成以下几步进行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905120" y="914040"/>
            <a:ext cx="58435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驱动器的控制逻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133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硬盘驱动器的控制逻辑包括控制与检测两个过程。前者包括对主轴电机、磁头控制电机等进行的稳速控制、位置控制、启动停止控制过程；后者包括主轴索标传感器、位置传感器、速度传感器测量的索标周期、定位标记和磁头运动速度的检测过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适配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0042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硬盘驱动器的控制电路主要包括两个部分，一是硬盘适配器部分它位于微机系统的一侧 ；二是读写逻辑，位于硬盘驱动器内。它们通过数据及控制电缆线相连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51577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硬盘适配器的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扇区缓冲器　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数据缓冲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控制器　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接口控制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驱动器选择控制器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数据分离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写预补偿电路       　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驱动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接口信号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接口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7524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适配器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409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91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0" b="6858"/>
          <a:stretch/>
        </p:blipFill>
        <p:spPr>
          <a:xfrm>
            <a:off x="1752480" y="762120"/>
            <a:ext cx="5943600" cy="517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41720" y="60958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6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硬盘适配器电路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213372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常见几种硬盘接口的数据及信号电缆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进出数据分离电路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到达写预补偿和同步电路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进出缓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收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0666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硬盘驱动器数据电缆信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6232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8.17  Intel 8272A 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内部结构示意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762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硬盘控制器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INTEL 8272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83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24160" y="557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磁盘读写原理示意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384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384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1430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硬盘命令及端口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3~8.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514600"/>
            <a:ext cx="541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控制器的端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序列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端口编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52480" y="5335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硬盘驱动器控制器的端口寄存器地址、内容、用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1828800"/>
            <a:ext cx="7314840" cy="4266720"/>
            <a:chOff x="838080" y="1828800"/>
            <a:chExt cx="7314840" cy="4266720"/>
          </a:xfrm>
        </p:grpSpPr>
        <p:grpSp>
          <p:nvGrpSpPr>
            <p:cNvPr id="234" name=""/>
            <p:cNvGrpSpPr/>
            <p:nvPr/>
          </p:nvGrpSpPr>
          <p:grpSpPr>
            <a:xfrm>
              <a:off x="846360" y="1836360"/>
              <a:ext cx="7297200" cy="4249440"/>
              <a:chOff x="846360" y="1836360"/>
              <a:chExt cx="7297200" cy="4249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846360" y="1836360"/>
                <a:ext cx="2169720" cy="988560"/>
                <a:chOff x="846360" y="1836360"/>
                <a:chExt cx="2169720" cy="988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967680" y="1836360"/>
                  <a:ext cx="19274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端口寄存器地址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46360" y="1836360"/>
                  <a:ext cx="216972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016440" y="1836360"/>
                <a:ext cx="2220840" cy="988560"/>
                <a:chOff x="3016440" y="1836360"/>
                <a:chExt cx="2220840" cy="988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137760" y="1836360"/>
                  <a:ext cx="1978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内容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016440" y="1836360"/>
                  <a:ext cx="222084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237640" y="1836360"/>
                <a:ext cx="2905920" cy="988560"/>
                <a:chOff x="5237640" y="1836360"/>
                <a:chExt cx="2905920" cy="988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358960" y="1836360"/>
                  <a:ext cx="266292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用途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37640" y="1836360"/>
                  <a:ext cx="290592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46360" y="2825280"/>
                <a:ext cx="2169720" cy="3260520"/>
                <a:chOff x="846360" y="2825280"/>
                <a:chExt cx="2169720" cy="32605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967680" y="2825280"/>
                  <a:ext cx="192744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0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写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0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读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1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读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1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写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46360" y="2825280"/>
                  <a:ext cx="216972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016440" y="2825280"/>
                <a:ext cx="2220840" cy="3260520"/>
                <a:chOff x="3016440" y="2825280"/>
                <a:chExt cx="2220840" cy="3260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137760" y="2825280"/>
                  <a:ext cx="197856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命令序列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序列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硬件状态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方式选择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16440" y="2825280"/>
                  <a:ext cx="222084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5237640" y="2825280"/>
                <a:ext cx="2905920" cy="3260520"/>
                <a:chOff x="5237640" y="2825280"/>
                <a:chExt cx="2905920" cy="32605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358960" y="2825280"/>
                  <a:ext cx="266292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发出磁盘操作命令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出错与否及错误住处序列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返回控制状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37640" y="2825280"/>
                  <a:ext cx="290592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838080" y="1828800"/>
              <a:ext cx="7314840" cy="4266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48640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驱动器、工作模式等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981080" y="9907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4  320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命令序列寄存器的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7200" y="1828800"/>
            <a:ext cx="8305560" cy="4266720"/>
            <a:chOff x="457200" y="1828800"/>
            <a:chExt cx="8305560" cy="4266720"/>
          </a:xfrm>
        </p:grpSpPr>
        <p:grpSp>
          <p:nvGrpSpPr>
            <p:cNvPr id="257" name=""/>
            <p:cNvGrpSpPr/>
            <p:nvPr/>
          </p:nvGrpSpPr>
          <p:grpSpPr>
            <a:xfrm>
              <a:off x="466200" y="1834200"/>
              <a:ext cx="8285040" cy="4254840"/>
              <a:chOff x="466200" y="1834200"/>
              <a:chExt cx="8285040" cy="425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66200" y="1834200"/>
                <a:ext cx="2329920" cy="687600"/>
                <a:chOff x="466200" y="1834200"/>
                <a:chExt cx="2329920" cy="6876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02640" y="1834200"/>
                  <a:ext cx="205632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寄存器数据位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6200" y="1834200"/>
                  <a:ext cx="232992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796480" y="1834200"/>
                <a:ext cx="5954760" cy="687600"/>
                <a:chOff x="2796480" y="1834200"/>
                <a:chExt cx="5954760" cy="6876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932200" y="1834200"/>
                  <a:ext cx="568260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7   6   5  4     3    2    1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96480" y="1834200"/>
                  <a:ext cx="595476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66200" y="2522160"/>
                <a:ext cx="2329920" cy="594360"/>
                <a:chOff x="466200" y="2522160"/>
                <a:chExt cx="2329920" cy="594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02640" y="2522160"/>
                  <a:ext cx="20563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6200" y="2522160"/>
                  <a:ext cx="232992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796480" y="2522160"/>
                <a:ext cx="1872000" cy="594360"/>
                <a:chOff x="2796480" y="2522160"/>
                <a:chExt cx="1872000" cy="594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932200" y="2522160"/>
                  <a:ext cx="15998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操作类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796480" y="2522160"/>
                  <a:ext cx="187200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68840" y="2522160"/>
                <a:ext cx="4082400" cy="594360"/>
                <a:chOff x="4668840" y="2522160"/>
                <a:chExt cx="4082400" cy="594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805280" y="2522160"/>
                  <a:ext cx="38095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操作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668840" y="2522160"/>
                  <a:ext cx="408240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6200" y="3117240"/>
                <a:ext cx="2329920" cy="594000"/>
                <a:chOff x="466200" y="3117240"/>
                <a:chExt cx="2329920" cy="594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02640" y="311724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6200" y="311724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796480" y="3117240"/>
                <a:ext cx="1872000" cy="594000"/>
                <a:chOff x="2796480" y="3117240"/>
                <a:chExt cx="1872000" cy="5940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932200" y="3117240"/>
                  <a:ext cx="15998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驱动器号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96480" y="3117240"/>
                  <a:ext cx="1872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668840" y="3117240"/>
                <a:ext cx="4082400" cy="594000"/>
                <a:chOff x="4668840" y="3117240"/>
                <a:chExt cx="4082400" cy="594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05280" y="3117240"/>
                  <a:ext cx="380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头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—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68840" y="3117240"/>
                  <a:ext cx="40824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66200" y="3711600"/>
                <a:ext cx="2329920" cy="594000"/>
                <a:chOff x="466200" y="3711600"/>
                <a:chExt cx="2329920" cy="594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2640" y="371160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6200" y="371160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796480" y="3711600"/>
                <a:ext cx="1872000" cy="594000"/>
                <a:chOff x="2796480" y="3711600"/>
                <a:chExt cx="1872000" cy="594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932200" y="3711600"/>
                  <a:ext cx="15998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96480" y="3711600"/>
                  <a:ext cx="1872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68840" y="3711600"/>
                <a:ext cx="4082400" cy="594000"/>
                <a:chOff x="4668840" y="3711600"/>
                <a:chExt cx="4082400" cy="5940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05280" y="3711600"/>
                  <a:ext cx="380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扇区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——17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68840" y="3711600"/>
                  <a:ext cx="40824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66200" y="4305960"/>
                <a:ext cx="2329920" cy="594360"/>
                <a:chOff x="466200" y="4305960"/>
                <a:chExt cx="2329920" cy="594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02640" y="4305960"/>
                  <a:ext cx="20563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6200" y="4305960"/>
                  <a:ext cx="232992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796480" y="4305960"/>
                <a:ext cx="5954760" cy="594360"/>
                <a:chOff x="2796480" y="4305960"/>
                <a:chExt cx="5954760" cy="5943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932200" y="4305960"/>
                  <a:ext cx="568260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06/7120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796480" y="4305960"/>
                  <a:ext cx="5954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6200" y="4900680"/>
                <a:ext cx="2329920" cy="594000"/>
                <a:chOff x="466200" y="4900680"/>
                <a:chExt cx="2329920" cy="5940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02640" y="490068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6200" y="490068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796480" y="4900680"/>
                <a:ext cx="5954760" cy="594000"/>
                <a:chOff x="2796480" y="4900680"/>
                <a:chExt cx="5954760" cy="594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32200" y="4900680"/>
                  <a:ext cx="56826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读写块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796480" y="4900680"/>
                  <a:ext cx="5954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66200" y="5495040"/>
                <a:ext cx="2329920" cy="594000"/>
                <a:chOff x="466200" y="5495040"/>
                <a:chExt cx="2329920" cy="594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02640" y="549504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66200" y="549504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796480" y="5495040"/>
                <a:ext cx="5954760" cy="594000"/>
                <a:chOff x="2796480" y="5495040"/>
                <a:chExt cx="5954760" cy="594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932200" y="5495040"/>
                  <a:ext cx="56826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控制字段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796480" y="5495040"/>
                  <a:ext cx="5954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457200" y="1828800"/>
              <a:ext cx="8305560" cy="4266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1143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5  320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错误序列寄存器字节的格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066680" y="1905120"/>
            <a:ext cx="7010280" cy="3428640"/>
            <a:chOff x="1066680" y="1905120"/>
            <a:chExt cx="7010280" cy="3428640"/>
          </a:xfrm>
        </p:grpSpPr>
        <p:grpSp>
          <p:nvGrpSpPr>
            <p:cNvPr id="312" name=""/>
            <p:cNvGrpSpPr/>
            <p:nvPr/>
          </p:nvGrpSpPr>
          <p:grpSpPr>
            <a:xfrm>
              <a:off x="1074240" y="1910880"/>
              <a:ext cx="6994440" cy="3415680"/>
              <a:chOff x="1074240" y="1910880"/>
              <a:chExt cx="6994440" cy="34156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1074240" y="1910880"/>
                <a:ext cx="1884960" cy="766440"/>
                <a:chOff x="1074240" y="1910880"/>
                <a:chExt cx="1884960" cy="7664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184760" y="1910880"/>
                  <a:ext cx="166356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寄存器中的各位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074240" y="1910880"/>
                  <a:ext cx="1884960" cy="7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959560" y="1910880"/>
                <a:ext cx="5108760" cy="766440"/>
                <a:chOff x="2959560" y="1910880"/>
                <a:chExt cx="5108760" cy="7664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069360" y="1910880"/>
                  <a:ext cx="488808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959560" y="1910880"/>
                  <a:ext cx="5108760" cy="7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074240" y="2677680"/>
                <a:ext cx="1884960" cy="662040"/>
                <a:chOff x="1074240" y="2677680"/>
                <a:chExt cx="1884960" cy="6620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184760" y="2677680"/>
                  <a:ext cx="166356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074240" y="2677680"/>
                  <a:ext cx="18849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560" y="2677680"/>
                <a:ext cx="1944000" cy="662040"/>
                <a:chOff x="2959560" y="2677680"/>
                <a:chExt cx="1944000" cy="662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69360" y="2677680"/>
                  <a:ext cx="172332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地址有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560" y="2677680"/>
                  <a:ext cx="194400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904280" y="2677680"/>
                <a:ext cx="1635840" cy="662040"/>
                <a:chOff x="4904280" y="2677680"/>
                <a:chExt cx="1635840" cy="662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14800" y="2677680"/>
                  <a:ext cx="141444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类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904280" y="2677680"/>
                  <a:ext cx="163584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540480" y="2677680"/>
                <a:ext cx="1527840" cy="662040"/>
                <a:chOff x="6540480" y="2677680"/>
                <a:chExt cx="1527840" cy="6620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51000" y="2677680"/>
                  <a:ext cx="130644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40480" y="2677680"/>
                  <a:ext cx="152784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074240" y="3340080"/>
                <a:ext cx="1884960" cy="661680"/>
                <a:chOff x="1074240" y="3340080"/>
                <a:chExt cx="1884960" cy="661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184760" y="3340080"/>
                  <a:ext cx="166356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4240" y="3340080"/>
                  <a:ext cx="188496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959560" y="3340080"/>
                <a:ext cx="1944000" cy="661680"/>
                <a:chOff x="2959560" y="3340080"/>
                <a:chExt cx="1944000" cy="6616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069360" y="3340080"/>
                  <a:ext cx="172332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驱动器号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59560" y="3340080"/>
                  <a:ext cx="19440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904280" y="3340080"/>
                <a:ext cx="3164400" cy="661680"/>
                <a:chOff x="4904280" y="3340080"/>
                <a:chExt cx="3164400" cy="6616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014800" y="3340080"/>
                  <a:ext cx="294300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头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904280" y="3340080"/>
                  <a:ext cx="31644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074240" y="4002480"/>
                <a:ext cx="1884960" cy="661680"/>
                <a:chOff x="1074240" y="4002480"/>
                <a:chExt cx="1884960" cy="6616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184760" y="4002480"/>
                  <a:ext cx="166356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074240" y="4002480"/>
                  <a:ext cx="188496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959560" y="4002480"/>
                <a:ext cx="1944000" cy="661680"/>
                <a:chOff x="2959560" y="4002480"/>
                <a:chExt cx="1944000" cy="661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69360" y="4002480"/>
                  <a:ext cx="172332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59560" y="4002480"/>
                  <a:ext cx="19440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904280" y="4002480"/>
                <a:ext cx="3164400" cy="661680"/>
                <a:chOff x="4904280" y="4002480"/>
                <a:chExt cx="3164400" cy="6616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014800" y="4002480"/>
                  <a:ext cx="294300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扇区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17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904280" y="4002480"/>
                  <a:ext cx="31644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074240" y="4664520"/>
                <a:ext cx="1884960" cy="662040"/>
                <a:chOff x="1074240" y="4664520"/>
                <a:chExt cx="1884960" cy="6620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184760" y="4664520"/>
                  <a:ext cx="166356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74240" y="4664520"/>
                  <a:ext cx="18849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959560" y="4664520"/>
                <a:ext cx="5108760" cy="662040"/>
                <a:chOff x="2959560" y="4664520"/>
                <a:chExt cx="5108760" cy="6620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69360" y="4664520"/>
                  <a:ext cx="488808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59560" y="4664520"/>
                  <a:ext cx="51087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066680" y="1905120"/>
              <a:ext cx="7010280" cy="3428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505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    6    5     4      3    2     1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47920" y="914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命令序列寄存器字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错误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14400" y="1752480"/>
            <a:ext cx="7467120" cy="4343040"/>
            <a:chOff x="914400" y="1752480"/>
            <a:chExt cx="7467120" cy="4343040"/>
          </a:xfrm>
        </p:grpSpPr>
        <p:grpSp>
          <p:nvGrpSpPr>
            <p:cNvPr id="359" name=""/>
            <p:cNvGrpSpPr/>
            <p:nvPr/>
          </p:nvGrpSpPr>
          <p:grpSpPr>
            <a:xfrm>
              <a:off x="921240" y="1757880"/>
              <a:ext cx="7452000" cy="4330800"/>
              <a:chOff x="921240" y="1757880"/>
              <a:chExt cx="7452000" cy="4330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921240" y="1757880"/>
                <a:ext cx="1958400" cy="721800"/>
                <a:chOff x="921240" y="1757880"/>
                <a:chExt cx="1958400" cy="721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25640" y="1757880"/>
                  <a:ext cx="174960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错误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1240" y="1757880"/>
                  <a:ext cx="19584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880000" y="1757880"/>
                <a:ext cx="2658600" cy="721800"/>
                <a:chOff x="2880000" y="1757880"/>
                <a:chExt cx="2658600" cy="721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984400" y="1757880"/>
                  <a:ext cx="244980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错误类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80000" y="1757880"/>
                  <a:ext cx="2658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539320" y="1757880"/>
                <a:ext cx="2833920" cy="721800"/>
                <a:chOff x="5539320" y="1757880"/>
                <a:chExt cx="2833920" cy="721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43720" y="1757880"/>
                  <a:ext cx="262512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出错内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39320" y="1757880"/>
                  <a:ext cx="283392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921240" y="2480040"/>
                <a:ext cx="1958400" cy="1202400"/>
                <a:chOff x="921240" y="2480040"/>
                <a:chExt cx="1958400" cy="120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025640" y="2480040"/>
                  <a:ext cx="17496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21240" y="2480040"/>
                  <a:ext cx="19584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880000" y="2480040"/>
                <a:ext cx="2658600" cy="1202400"/>
                <a:chOff x="2880000" y="2480040"/>
                <a:chExt cx="2658600" cy="12024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984400" y="2480040"/>
                  <a:ext cx="24498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硬件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80000" y="2480040"/>
                  <a:ext cx="26586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539320" y="2480040"/>
                <a:ext cx="2833920" cy="1202400"/>
                <a:chOff x="5539320" y="2480040"/>
                <a:chExt cx="2833920" cy="12024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643720" y="2480040"/>
                  <a:ext cx="262512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命令非正常结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无效命令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驱动器未准备就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39320" y="2480040"/>
                  <a:ext cx="283392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21240" y="3682800"/>
                <a:ext cx="1958400" cy="1203120"/>
                <a:chOff x="921240" y="3682800"/>
                <a:chExt cx="1958400" cy="1203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25640" y="3682800"/>
                  <a:ext cx="174960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21240" y="3682800"/>
                  <a:ext cx="195840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80000" y="3682800"/>
                <a:ext cx="2658600" cy="1203120"/>
                <a:chOff x="2880000" y="3682800"/>
                <a:chExt cx="2658600" cy="1203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984400" y="3682800"/>
                  <a:ext cx="244980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传送数据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80000" y="3682800"/>
                  <a:ext cx="265860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539320" y="3682800"/>
                <a:ext cx="2833920" cy="1203120"/>
                <a:chOff x="5539320" y="3682800"/>
                <a:chExt cx="2833920" cy="1203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643720" y="3682800"/>
                  <a:ext cx="262512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无标识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CRC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校验错误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找不到指定扇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539320" y="3682800"/>
                  <a:ext cx="283392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921240" y="4886280"/>
                <a:ext cx="1958400" cy="1202400"/>
                <a:chOff x="921240" y="4886280"/>
                <a:chExt cx="1958400" cy="1202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025640" y="4886280"/>
                  <a:ext cx="17496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921240" y="4886280"/>
                  <a:ext cx="19584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880000" y="4886280"/>
                <a:ext cx="2658600" cy="1202400"/>
                <a:chOff x="2880000" y="4886280"/>
                <a:chExt cx="2658600" cy="1202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984400" y="4886280"/>
                  <a:ext cx="24498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盘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80000" y="4886280"/>
                  <a:ext cx="26586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539320" y="4886280"/>
                <a:ext cx="2833920" cy="1202400"/>
                <a:chOff x="5539320" y="4886280"/>
                <a:chExt cx="2833920" cy="1202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643720" y="4886280"/>
                  <a:ext cx="262512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道不符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道坏标记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F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读时含删除标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539320" y="4886280"/>
                  <a:ext cx="283392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914400" y="1752480"/>
              <a:ext cx="746712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28800" y="4800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18  321H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硬件寄存器各位的含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049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4226" t="0" r="3113" b="14067"/>
          <a:stretch/>
        </p:blipFill>
        <p:spPr>
          <a:xfrm>
            <a:off x="457200" y="1905120"/>
            <a:ext cx="83818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103428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3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硬盘驱动器数据线的线缆标准</a:t>
            </a: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8278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硬盘驱动器最常用的数据线缆有五种线缆标准。变频锁相环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FM/PL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数据线缆、行程长度受限制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RLL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、增强小型设备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ESD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线缆、小型计算机系统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CS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和集成驱动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DE/E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五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371600" y="1905120"/>
          <a:ext cx="60958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05120"/>
                    <a:ext cx="6095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91440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7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增强小型设备接口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D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线数据线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828440" y="914040"/>
            <a:ext cx="5767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增强小型设备接口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SD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8 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增强小型设备接口（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ESDI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34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线控制线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76520" y="1592280"/>
          <a:ext cx="5638680" cy="480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92280"/>
                    <a:ext cx="56386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57040" y="1142640"/>
            <a:ext cx="5767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小型计算机接口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SCS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2362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小型计算机接口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S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数据线缆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两种形式的数据线缆。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S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数据线缆，其尺寸一般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寸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寸两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1019880"/>
            <a:ext cx="4267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2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写入数据原理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当要记录的电流通过线圈时，为了保持磁化强度，记录信号的脉冲需要一个周期内使磁场方向改变一次，当磁头中写电流从正向稳态变为反向稳态时，使记录在介质上的正向饱和磁化强度翻转到反向饱和磁化强度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495480" y="1447920"/>
            <a:ext cx="91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9  SCS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接口驱动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线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952560"/>
          <a:ext cx="447696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52560"/>
                    <a:ext cx="44769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127800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4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增强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IDE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EIDE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ATA-2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接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口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规范中还通过一种被称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AP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新标准，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接口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驱动器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外形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2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应用在硬盘接口上时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一般都采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I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，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定义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传输模式及其最小总线周期时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71880" y="5486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21  EI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口插座外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957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447920" y="5486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.11  EID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传输模式及其最小总线周期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952560" y="1828800"/>
          <a:ext cx="72388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828800"/>
                    <a:ext cx="723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133360" y="1142640"/>
            <a:ext cx="52340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超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协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21337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协议是一种用于数据传输的新型协议。通过标准的总线主控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接口电路来启动和控制这种传输。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一个源同步信号协议来传输数据，以支持数据传输的突发操作。是采用总线主控制方式，在硬盘上安装控制硬盘读写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057040" y="1218960"/>
            <a:ext cx="47768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信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95280" y="28195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工作在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式时，只是对一些标准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信号进行了重新的定义，这些重新定义的信号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的数据传输定义为读周期，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的数据传输定义为写周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990720" y="1066680"/>
          <a:ext cx="7162560" cy="34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71625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457200" y="4952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接口控制信号的重新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057400" y="990360"/>
            <a:ext cx="55418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作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21337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工作在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时，必须预进行初始化编程，这种初始化编程分成两个部分：一个是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的使能和配置，一个是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的使能和配置。对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，必须允许工作在同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和建立适当的同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361960" y="990360"/>
            <a:ext cx="4647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05740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可以通过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寄存器进行编程，可编程的时序包括周期时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准备暂停时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数据有效使能信号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RO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最小脉冲宽度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期望停止突发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传输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RD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效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O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需要等待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钟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980720" y="990360"/>
            <a:ext cx="53866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66/1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3960" y="2209680"/>
            <a:ext cx="7696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6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逻辑时钟运行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数据传输率达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B/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6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协议也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4MB/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传输模式，此时完成一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的数据传输需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时钟周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8967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读出数据原理及过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41120"/>
            <a:ext cx="86868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读出是写入的逆过程。当磁头与磁介质作相对运动时，由于磁介质与磁头铁芯的缝隙相接触，使铁芯中出现原记录的散磁通，并且在读出线圈两端产生感生电动势。经过读出电路就可还原成读出电流，读出电流的方向、大小正好与原记录信号相同，使原数据信号还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2664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现代硬盘及接口技术的发展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605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4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头技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内部传输速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用全新的硬盘保护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接口新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8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973080"/>
            <a:ext cx="730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头技术的发展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388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现代硬盘中在磁头技术上普遍采用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GM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巨磁阻磁头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OAW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学辅助温氏磁头技术，使磁盘的容量更大、磁道的密度更高。如现在已经出现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0G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上容量的硬盘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1760" y="1034280"/>
            <a:ext cx="7683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2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硬盘内部传输速度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802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硬盘速度方面除提高主轴电机转速外，采用更大的硬盘高速缓存（有的硬盘具有高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2KB~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高速缓存）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DSP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超级数字信号处理技术，使硬盘的数据传输速度更快，现代硬盘的内部数据传输率可达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0MB/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甚至更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9804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采用全新的硬盘保护技术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硬盘保护技术方面采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.M.A.R.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硬盘故障自动检测、分析报告）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P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盘振动保护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P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数据保护系统等，使硬盘的防震性能更好、可靠性更高、寿命更长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接口新技术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技术方面，采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 DMA/33/66/1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TA/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新型接口技术。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CS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硬盘接口技术方面，采用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 160/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，使数据传输速率高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60MB/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EEE139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技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EEE139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硬盘接口规范的应用，使硬盘的数据传输率更高。它是一种高速串行总线，二是一个标准接口，具有较好的兼容性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973080"/>
            <a:ext cx="7531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驱动器接口软件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6072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驱动器的端口操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的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IO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服务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的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O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205740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直接作用于适配器控制器，是针对端口进行的输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输出操作及其命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作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是系统提供的磁盘服务程序，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T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断调用为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高级磁盘服务程序，作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磁盘操作系统，是系统提供给用户的命令或应用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1143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硬盘驱动器接口软件有若干类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驱动器的端口操作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4800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2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磁盘端口一级的命令调用功能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066680" y="2438280"/>
          <a:ext cx="6607440" cy="17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38280"/>
                    <a:ext cx="660744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BIOS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服务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23  BIO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级调用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838080" y="2133720"/>
          <a:ext cx="6989760" cy="22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897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51814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3  INT 13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软盘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2360" y="2073240"/>
          <a:ext cx="8639280" cy="27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2073240"/>
                    <a:ext cx="86392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973080"/>
            <a:ext cx="6006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读写过程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读写磁头与转动平面垂直接触，在读写窗做前后方向运动；当线圈通过不同方向电流时，在磁铁芯中形成磁场，并产生不同方向的磁通；磁通透过读写缝隙与涂磁盘面接触，使磁化因子运动。这样盘面上的磁化运动与代表数据的电流构成了关系。磁盘读写电路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133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4  INT 13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硬盘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28600" y="1905120"/>
          <a:ext cx="8534520" cy="399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05120"/>
                    <a:ext cx="85345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DOS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接口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用户程序调用过程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2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调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驱动程序要经过以下几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根据用户程序或命令，查找相应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服务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内存中建立地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指向请求处理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策略过程，将请求标题存入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EG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寄存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照请求标题的地址，对相应的信息进行处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5740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4864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90640" y="5638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24  DOS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调用过程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572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912240"/>
            <a:ext cx="8140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200" y="2514600"/>
            <a:ext cx="820908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>
            <a:hlinkClick r:id="rId4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endshow"/>
          </p:cNvPr>
          <p:cNvSpPr/>
          <p:nvPr/>
        </p:nvSpPr>
        <p:spPr>
          <a:xfrm>
            <a:off x="6072840" y="63403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5486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2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磁盘读写控制电路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7:48:24Z</dcterms:created>
  <dc:creator>liwu</dc:creator>
  <dc:description/>
  <dc:language>en-US</dc:language>
  <cp:lastModifiedBy>wuxian</cp:lastModifiedBy>
  <dcterms:modified xsi:type="dcterms:W3CDTF">2002-01-23T08:40:23Z</dcterms:modified>
  <cp:revision>35</cp:revision>
  <dc:subject/>
  <dc:title>PowerPoint 演示文稿</dc:title>
</cp:coreProperties>
</file>